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D05-4DA2-4AF8-8FF6-DE655E1C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8C57-F49E-48A9-AFB2-7AC34107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3E61-B595-4A6E-B51B-2CA63CD7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D9C7-6B35-483A-AD38-EF4F672A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617A-4C75-4B25-8752-29E55E56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6E8A-1E6A-40B0-B051-FACC294F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1D0C-CE9E-4ABA-86E9-AF1D909A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FFDE-C2C7-4B02-B483-77A65E55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2636-F1E0-488A-ADBE-11A5090C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9012-9554-415C-AD6B-6EF388FC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F5B6-5D7C-430A-96FA-184EE0BA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882-9DA6-424F-AAA4-DF283899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0B69-7DFF-4910-8CD1-5FD42A2F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2DD2-3EE8-4772-8D86-0E9B67C0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4228-4271-4BA2-86F1-556E3CBD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6567-48CA-4FF9-A168-26D562EA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7F79-1B4D-4AD4-95FA-6A8BED34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1BE-4C33-4103-9D60-3DA6C1E1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54E-FB6A-4C9D-A04B-A50A2477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5F5-323C-4A15-9120-ECF46401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8B7-D615-4CF2-8781-D004E190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33DA-6035-4180-BD0F-C83364D9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A9C-4E50-47D4-8A2E-1735B6E2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5C76-9BA1-4020-8BAE-1A7701A8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FE2F-A4BD-4443-82D7-83B0E14261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60ED-6B1C-4D69-81FA-115B9AB217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, Positive Externality of Consum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ew Hol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llust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648240" cy="4486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4248360" cy="3359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Education, Market Fail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476360" y="1557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5805360"/>
            <a:ext cx="619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7080" y="5950080"/>
            <a:ext cx="17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5573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360" y="1989000"/>
            <a:ext cx="590400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1989000"/>
            <a:ext cx="439092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476360" y="1916280"/>
            <a:ext cx="496728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17733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C=S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80360" y="40766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53737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476360" y="306864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7640" y="306864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3573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476360" y="3573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1640" y="58770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58770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2924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34290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1989000"/>
            <a:ext cx="2951280" cy="1584360"/>
          </a:xfrm>
          <a:custGeom>
            <a:avLst/>
            <a:gdLst/>
            <a:ahLst/>
            <a:rect l="l" t="t" r="r" b="b"/>
            <a:pathLst>
              <a:path w="1859" h="998">
                <a:moveTo>
                  <a:pt x="0" y="0"/>
                </a:moveTo>
                <a:lnTo>
                  <a:pt x="1859" y="680"/>
                </a:lnTo>
                <a:lnTo>
                  <a:pt x="1270" y="998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332000" y="2997360"/>
            <a:ext cx="1871640" cy="15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4365720"/>
            <a:ext cx="1440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spill over of a well educated work force which benefits third pa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184464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ducation consumers only consider their own private costs and benefits the consumption, then there will be an under consumption of education (QF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positive benefits of education on others is considered, the socially desirable level  of consumption would be free market consumers under education (Q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86240" y="2724120"/>
            <a:ext cx="942840" cy="849240"/>
          </a:xfrm>
          <a:custGeom>
            <a:avLst/>
            <a:gdLst/>
            <a:ahLst/>
            <a:rect l="l" t="t" r="r" b="b"/>
            <a:pathLst>
              <a:path w="594" h="535">
                <a:moveTo>
                  <a:pt x="4" y="535"/>
                </a:moveTo>
                <a:lnTo>
                  <a:pt x="0" y="0"/>
                </a:lnTo>
                <a:lnTo>
                  <a:pt x="594" y="216"/>
                </a:lnTo>
                <a:lnTo>
                  <a:pt x="4" y="53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851280" y="3213000"/>
            <a:ext cx="273672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479736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weight loss that results from operating at the free market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3280" y="630864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xit" presetID="2" presetSubtype="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2:33:46Z</dcterms:created>
  <dc:creator>Stuart Holland</dc:creator>
  <dc:description/>
  <dc:language>en-US</dc:language>
  <cp:lastModifiedBy>Stuart Holland</cp:lastModifiedBy>
  <dcterms:modified xsi:type="dcterms:W3CDTF">2008-07-26T02:20:59Z</dcterms:modified>
  <cp:revision>5</cp:revision>
  <dc:subject/>
  <dc:title>Education, Positive Externality of Consumption</dc:title>
</cp:coreProperties>
</file>